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BEDA-50A1-457E-9570-11EC61268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14EE-2BBC-4892-935E-F15D59567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5BB2-00F9-47FA-ABC0-CAF3D0304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1DC0-B36F-4456-B1D0-40950B8039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4982-3943-461E-9F2A-14F8AF99AA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F9CB-F275-4270-900D-FB59DAF49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2A0F-DD7B-4BEF-A4F3-16E6231F1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763A-8A0D-441A-9922-2368ABF6F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DA9D-5A4B-4945-8302-A75883214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CD11-D7DC-4CEC-BA49-862D7867F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F0FA-0262-45AA-B780-2FE52379B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BD15-ABE0-4553-BC87-E8DB57B10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6C5A-43EB-435F-B08B-C0F299E0A1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077-FB64-434C-8EA5-B0ABC3EABE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1980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uccess criteria the students co-construc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D608-9BDA-43BC-9890-0B3493FB71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 once they have completed th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FE00-2CB8-46C9-8ECC-FFE15A596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3733920" y="3809880"/>
            <a:ext cx="4724280" cy="2133720"/>
          </a:xfrm>
          <a:prstGeom prst="cloudCallout">
            <a:avLst>
              <a:gd name="adj1" fmla="val -88912"/>
              <a:gd name="adj2" fmla="val -38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change about your success criteria now that you have solved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the students alter their success criteria they co-constructed before they did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5435-1224-4AFE-BB8F-84A15EC30E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64D4-3F83-4493-81F9-B925AAC54A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5ca9"/>
                </a:solidFill>
                <a:latin typeface="Arial"/>
              </a:rPr>
              <a:t>Video…the math!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767-84EC-45BA-8D9C-AA4110D390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040" y="25142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o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9CD-5BFA-48CB-A93C-203D52779F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72DE-297A-4A42-8C77-22BBE2377D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 of feedback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 one student sample and team up with another p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 your samples and the feedback you would prov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A12F-9A03-4F2F-A2CF-CE16B1C799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4920" y="22856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5194-E1F2-477C-8C59-843E1BB240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2640" y="18284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B6D7-21A3-4812-A98F-DC2CA3C9A8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" name="AutoShape 7"/>
          <p:cNvSpPr/>
          <p:nvPr/>
        </p:nvSpPr>
        <p:spPr>
          <a:xfrm>
            <a:off x="3505320" y="3429000"/>
            <a:ext cx="4495680" cy="2209680"/>
          </a:xfrm>
          <a:prstGeom prst="cloudCallout">
            <a:avLst>
              <a:gd name="adj1" fmla="val -87643"/>
              <a:gd name="adj2" fmla="val -28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ve the problem in at least two ways, noting possible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your responses with a partner and provide feedback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1B61-9BDF-4EDA-BD8D-608140EF79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905120"/>
            <a:ext cx="365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2EE5-CE76-402C-A60C-E918A90D3B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8288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 fill out the exit c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73D-41FB-4A1E-91EC-473247F52A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 the statements in a way that make sense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reas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ABD5-D3B4-4BC3-AF94-138FB1B0DC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 the sorting template altered the organization of your statements in any way? Expla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9344-3142-4E73-9903-B2B8850483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okie Recip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A35A-3C23-4848-8B4A-9767BC69E3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4343400" cy="32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(quick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31C8-C102-42F3-B638-512E8F6FE9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Cooki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81F-4164-4045-BA0D-434F2A4AB1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535A-FBE3-4AF0-8E03-0F7612D7EF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students identify as evidence of a good answ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A180-747C-4F49-8765-FFE448ECC2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8-19T13:50:37Z</dcterms:modified>
  <cp:revision>99</cp:revision>
  <dc:subject/>
  <dc:title>&lt;Title&gt;</dc:title>
</cp:coreProperties>
</file>